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D14-12C4-44A2-93F7-77FA6B11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FCCE-8996-40DC-88A5-78C40BA4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0D730-2740-4672-8F96-199F7898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3DFBB-0F14-4ACF-BF44-6E0771AF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C3319-4B40-4AD0-A323-95B2473D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17299-79C0-4679-B965-9D718595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5A202-EDB5-4FB3-8D6E-6915C4A7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4CE85-7684-4332-ADB6-DDDBEB03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ADF89-823F-49AE-9960-06AFC915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45AF3-F735-4FFF-B3FA-12404D86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3A169-7258-4BEA-9B8E-3D00FC7A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84131-0A33-4B02-9C14-0E8B9618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D5F-7C83-4EF7-BDD8-CDBDD438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232E8-7D1E-4E50-A418-5C24B430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E1258-5FBD-43D3-BC40-47B29E8A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63223-97F1-41F4-BE0B-FBB6639E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729C9-8661-491E-8AB3-F43AC3C9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DCA3D-0082-40EC-9646-62DAE403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EFFA3-DBB3-495C-9B90-AF4ADBDC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20B94-E350-4D3B-AAD5-949F5173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601ED-57DC-418D-BBCC-00C7CF4F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4D930-9963-47AF-833D-6A0D06F6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90FCA-218F-48B0-9B55-A0CC7E5B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72B-92A2-4C8E-9A33-4C3A7408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E744D-A034-4A7B-991F-F32D4CAC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7337F-694E-4E67-919F-48997081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FC636-C371-43CE-8527-42CED544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22816-4D62-4ACD-B8EA-67F9D27E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F5597-289D-4F14-A6BA-34F1B301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FD83B-2FF4-423D-81E4-57A7A07E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0C149-C122-4D48-8172-31149734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381D1-DF7D-4FAB-AE4B-B1EE44CA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7DD5D-D801-48B0-BABE-7ADB1069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BC866-F50E-4691-BCDA-88BE4A50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4C59-0B42-43C5-A57F-FDEA98FA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A9D88-2349-470E-86E9-46344CAD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1C76D-000F-41C9-95FE-71223E2B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FDE84-BD25-4972-989D-6CA3988B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2A756-B0D5-40F9-8EEE-B4904D99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3CBBC-396C-43BF-86F3-26BE6BE1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34009-9C7E-4BAB-8FE4-17FD4289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A15E0-5195-451B-87B9-EDFD2429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46A5B-C76F-41F5-922F-E8786F38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EA55B-1BBD-43F3-ACA9-82060A99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7C295-0508-4E0E-AAB4-8E675EBD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4675-9A9C-4CF0-9AE4-94BF0C80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07F73-BC7C-4069-8831-1846BCB8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5C4D3-D990-453F-84DF-A11EF90D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805F1-F845-4293-97B5-D8C75C78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3F2A7-89C7-4F60-B662-3D2D7CC6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68895-6471-4440-AAE5-EBBDC9AC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3471C-0E96-447D-9044-64742493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B4222-D1F1-4810-96F4-E183400B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2696B-AB12-46C6-BFAC-E098F562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2C0E2B-99FF-4F04-B6F1-C9102D6D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94C17F-B3A5-428F-810A-493631EE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8E9E-64CF-460F-8AB5-6672E6C1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21C27-2290-472E-89D8-08F827F6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17DF1-186F-4296-BF5F-1CC59639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0149F-8BF6-4603-AB05-01092F57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B8E66-E57F-4C15-B810-DA492213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004F2-0B22-4B1A-8619-9788E375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46C6E-B526-4FDF-B7ED-92750012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66F28-4305-467A-ADD9-E2E74F92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6752BF-6CC1-40B5-8A5B-D9897468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248AF-41E9-45D3-B751-CA80C129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5A6FE-C6E4-4192-96C0-C205DE20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6E15-7A1E-43C3-82A2-B066763C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2088C-9274-4FAA-88F2-6EC1CDAF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255FF9-4C30-4C81-9A07-B315EF3C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369035-B72B-448B-BEC1-455AED60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B1110-680A-4957-BCA8-D790B37F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E4DDE5-BA12-4E0E-B0FF-22E3E091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974A0D-AB36-48D9-AE21-F70B0986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AC9A7C-B2B5-4ECD-857D-96BA59B9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1BB98-6768-4B01-86F1-A85CA55D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38C0D-FFF1-49DD-8BCB-1512CC72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FC8105-AE47-492C-BCFE-B89BB8F4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0A2B-A653-437B-8F42-15AAD50C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743489-6487-40BD-A5E0-4D03E263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D59DFC-B0C6-40D7-A13D-31F78993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942B19-67DC-401C-BD53-AE583C94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7475A0-F537-453C-97F9-607C02CD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2382F-E9BA-41CC-AC6B-CC121B21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2B6338-AA57-4B40-B628-5318744F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CC5896-0F76-4B79-B7F7-DDF6A4A4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F145C-33DB-46F4-859F-F8CCA8F2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08FB15-57AB-4E81-9714-90252A16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5ED7B4-DC32-44B3-B2FA-B011E7F6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0BE7-E3C5-4CBB-B6E3-093ACD57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8699AE-F592-47BA-BEE9-DE093391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FDD1CB-3126-4461-A8CC-7AD4F555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770CF-A2F5-4D95-98B7-478444B7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CDE553-0FC7-4822-A160-6EA2A1F4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967F7-DECF-45A1-82FF-7BD283C9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A4664B-CAA7-4FCB-A353-DB80B40A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3A47E-DC84-4486-932A-9CEBE46A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8E98F9-F51A-4CC6-8A23-89A93C8A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0AF5B6-6EBD-4202-B9FF-B3CB02F3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3617E4-10DE-44E4-84E2-0C3BBAE5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3613-72CD-4BFA-9DF5-8D69D359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A74E94-10AE-4B94-A367-CDC839F5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F0CD3-8607-4F86-96D8-39A1D568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9E1086-0BE6-4D62-BB47-E08A4577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228175-43A0-4322-8BAB-2028F032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665667-B3E6-4B6B-9BAC-38D36456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146BF-3225-4284-86D1-F3147133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DF75F3-F607-4014-AAB8-37DDE6E3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CB0186-6DCD-4731-9818-86B041D8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37621-B7E5-45BE-901E-0C5DA79D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171E3A-548F-414F-8DA4-62532D54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684E-D940-4A24-9C2F-F6F9A038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4DC4-E220-46AE-9A41-A98D630E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0BB46A-B636-4618-8AFF-FB5B7EAE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3F65B-809B-4ABD-9404-5FF65BB5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39DE22-3D06-4718-8E5D-D311590D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286CD9-F85B-4B0C-8A3D-0AC2F2AF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124A4A-6865-4868-8C06-86D28B27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D41262-E6A6-4853-9940-16A03575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6494D0-ADFD-4FE6-ADEF-012D71B2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6DA77E-79B3-48F3-A017-790A69C0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167A28-DC43-4F19-9D9A-ACBF24B4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5AFA7A-AE8A-4943-BADC-DEE9524A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B038-4A0B-4CCA-A372-49496530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3FD985-70C5-4722-96CE-930CE6B0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20740D-6447-4DCB-ACB3-6DAF7E7D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E929FF-2934-408E-A60C-12126901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95BECF-E5B3-468A-9E72-1116D462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F14F40-E4AE-4C3A-83B8-D2287BD8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C24047-3905-4EEE-9DFA-12DEC015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0CB602-9204-4676-A2C2-8122718B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3BAD25-8B08-4967-A025-717DCB43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A63711-6928-45AB-888A-E70DCD1D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A18C23-93CA-4D2B-BAAB-37C9E92D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A8E0-AAF6-4D18-AF5E-18E64DE2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77DEC6-FBBF-4A69-98A3-D389158E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855D7F-9B0B-4D80-9D5F-3D21A3D9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AE0597-83AC-47C6-BB65-1D56A565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FB0153-066A-4D68-9872-758373F9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19152D-0BAC-471C-A21D-DC27D525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D4B12B-DE33-4CA1-AFB7-2578C91A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169234-CD27-4552-B8D9-5EA033D6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BE0979-9B43-4ABC-A718-DE120EE0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A8D071-A4B4-4553-8D32-2A24375A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D85220-EC58-4168-8076-99762E82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5280-EEC3-4655-A1B6-024C3A18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E8B258-CFD6-44B3-AA44-EF73763E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C7BE76-F562-4113-A70E-16A5224C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7FBA9C-2844-4617-BBB3-F9763655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C4E0AB-BEC6-48AE-A02D-B5140FE7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CE2CE7-B866-4C6F-977F-82427600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5B626D-F92C-4D14-8A89-DADC1E67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7C7652-62C3-4B09-8EA2-DC78DDC7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3BC012-A6E0-4F5E-96FB-F05B1E4D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DC8DD1-D9B0-478D-938B-573586AB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D2FA40-D857-439C-A9E7-B8CB0142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727C-9FB7-41CA-86E2-EABFB8D1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685A51-CCED-4B99-9971-FF37584C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8161A8-E77A-4401-AC0A-65A27593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7005F8-083B-47C1-AA79-410DA866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5169F4-795C-4B55-9A02-CCB73B95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3F2D82-A84E-4C6C-8299-36B40716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2AD5E5-F0C1-4B6F-A0C1-9F6BD97F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B4FB5B-E328-49D1-8FAC-364C29B1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AA5CB4-2A04-4DE3-82E4-37A4B8CC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DEEB4C-0B35-40AC-BD8D-98200D84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C40919-274F-4FF6-96CE-6F541C49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B2150-6B20-4E0E-B43E-735283A2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D7F6AF-998E-441B-B1ED-1682BB4E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69B847-4268-433D-ABE1-E628904C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F623B1-4AE1-4C9A-829A-5F303358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EBB316-599F-45E2-B3C9-BC99849D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804CEB-60E4-4D67-A00F-E9CBB69F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7D4E23-77A8-488E-9584-74DF2041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B978C7-112A-4BEA-8448-48726882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3C8F6C-1A29-4E9B-B06D-83D0CE13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7BAA5E-BB8C-45EA-9DBC-93316C1E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071F5C-289F-4FCC-A68A-6DDBD89E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FE900-B8F8-4759-A211-AD60F77B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025F47-BD09-4396-B35A-46588544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811CA5-4091-48F0-BC90-708D8C49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6C486C-56FB-41CD-96D5-6DB72EA6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5F5616-1AC0-43C1-9178-7F7B6BA7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0C36A1-4877-4F09-A822-70016113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737EDA-BE9B-4DF0-AA24-4742F72C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F5C283-4EA9-47AC-8B1C-194A1F5B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A6B966-B09A-4CC2-8C2B-B50AF0E5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E81D11-7511-41BE-AB3B-41706E92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33A900-A934-44AD-A685-D9837054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A8F5F-0F36-443E-98AA-B18A8768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7145C1-6D7D-4526-8C18-19476C35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24A53E-A2FC-491A-8455-D8690C86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F30BAC-3C1D-49DB-8E74-B5AE8F99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CD66A2-BEC4-4079-993E-F090D652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AD3E02-0AEB-4E00-8AEF-8E1C258E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06C9C2-C974-4841-819E-A0168C76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4698DB-0D1C-4AE3-BFA5-548284DA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8DB326-11B1-41D0-9863-D3507961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9BFDC1-7981-4A20-8560-C6F73ABA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22C8D6-90D0-450C-AD83-A4F3E601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BBFDB-E67A-4589-93BF-1420AD59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E0A31E-A382-4BF8-BBC6-55FFBE3D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F49388-AF3A-4431-A74C-A762A02A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831ECF-C4CD-445C-9630-67942B04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27AAB7-B73C-47F5-ADA4-2B3084E1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76010F-6EDE-406D-927C-121544D7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F47FEA-FC59-4A24-8483-7702C751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0F1C38-9589-48C1-AFA6-17E2DEF6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AB2AC3-1EDB-48CE-B378-4B2DF5D5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DA9EC5-8EC1-4CA7-95FF-9202C2A9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B74D-FEB2-41E1-8AA1-EF449307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F66-FA48-4847-86DF-E2D64023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5C41-7D0C-4426-901D-901FD464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386A8-5C8B-4C00-94A9-E94CF4A8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62C98-4AB1-473B-B23A-15113261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2D4CD-07B3-413B-B61E-A887EB90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F3683-A9A7-40E8-AC92-AD63C992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E363B-FEAE-4FDA-8007-4FFCEDF3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AF252-5A43-47AB-B49E-75808758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76CF2-07B1-413C-AB57-3229B142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25692-460E-401F-BFFE-044DBC75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3B11B-4543-4BCB-B898-2F099927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17A-74C1-4409-997A-B17D6728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75C0C-1992-4B03-9533-D599D901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FD08F-B490-4ED6-B87C-DEF79A12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FE461-E574-4990-B627-7EC816DD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A5F50-8497-4ADA-9E84-6190A659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39F5C-046A-406D-9222-0D29A272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6C8A0-CB41-48E6-8134-996BE10C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774D3-2DD3-45EC-8E9D-DC6CADAA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BD662-E99C-45B3-9442-1B3EF542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C9EB0-0DE9-4581-BB4C-0264DBC9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45B9F-B6DC-40CC-82C3-DA210E0E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567-AC29-40A5-85B0-C017A2C9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FCE54-F63C-4EAA-B718-4FEDBBA5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22024-29B5-4CC6-9B73-DE57D4CC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6BEB5-E86B-4852-AC28-E3023248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C764F-C266-4EF4-9A13-E440D227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1DDA3-47B0-44A6-84A0-8DB5513B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23A3D-68A9-43B2-9637-6A9E8A8C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26F24-FED2-44EC-B826-DDD97A2B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36FBE-898F-4753-8550-B8E33FCA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2B992-D9FD-4AD8-BB36-19EC30DC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D367E-BE59-499B-8C77-48E687F7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8E5-50C8-4B7B-B039-6B9A20E2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686DE-DCF5-4412-97F2-A5BC753F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4AC10-4992-4676-888A-E4346322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52095-49E7-40EE-A320-606DC71B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0B39C-3089-40AA-ADE4-1CCC0994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71A44-2946-4CAF-9243-D4918830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B030E-783E-455E-A950-9D397D83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B1265-C5BD-427A-8055-BB04A9BF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66003-BB2C-44AE-9F2B-AF7561E5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54C21-4976-46F7-9DC4-3F302184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23C7F-F9D2-4BF5-82DC-746C447C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F623-F36E-477F-A72F-0E9B11D2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815EE-2952-4481-AFD2-0F37336A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DA557-1FC0-417F-B5D0-64E10AC0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4BC6C-020C-4547-B0CF-E3536E93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51818-3210-493E-BD59-52D5DA7C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054AD-7B09-476D-9C9C-F940DC5F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F7257-D936-4BD0-AD58-037321CB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E035A-9D13-419E-B168-5BCF3385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61048-526D-413F-A105-4847C630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63EAA-4004-45FC-B486-4424AA90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F2575-A40B-4B2B-B937-D17AE0E7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6278-69B4-449E-B785-ECA26C10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DE6C6-90E1-4E44-8F13-D504C0D7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8E7DA-7F52-42AE-87B2-A74EF508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69CF3-BA2C-4310-A54A-702885B8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5268C-08F5-4B89-8845-0CB5F9F2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3807E-C66C-4C7F-9ED0-1945C230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C88A0-78D1-41EC-9535-87CDA0F0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86147-8C5B-433B-AD07-45CF4EBD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2A8AB-DDA7-495A-BFEF-4D1DDC90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8853B-6A86-44DA-B1E6-FA125AC4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34F3C-943A-450E-8EC7-111F361F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C2E-6AC5-4FA4-9334-CE26CD43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3B027-8ED7-477F-9B9D-B0CDB254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3FD00-8613-4FA0-A8B1-55D5213A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C0F0A-985E-47AF-9294-B3B3D86A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2548E-2445-428C-A3B7-8E6105AC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C0E0C-18C2-4535-A09D-839ADE88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E8740-B48E-4548-9931-F2D92CDE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4D389-F672-46D3-8E61-0ED40719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10FC0-18B3-4C87-B42E-CDED38FC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89A57-2742-48ED-9B1F-55137CF8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00B99-789D-4C3F-86EB-4C9EDD2C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C411-BD43-46A9-928B-000490981E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E:\制作工作\2014\1\PPT模板\样例\7 初中数学\模板1-2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7566-6391-4EED-BF87-FDEBCAEBFD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761E-48E3-43A1-AA43-9C7CF59176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88CF-70AC-4505-9534-D1B46F4BE8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A2C0-1631-4742-B915-71403436E4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660A-225E-44E8-B12E-E0B5DD204F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DD15-1922-4968-93FC-2149BFA6E5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7953-6EBE-4E89-A8B0-205AA4A762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DD34-22B0-44DE-B770-EAAA353FA3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C7E1-EB3C-49A4-AC92-A14A0C776D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11E0-F688-475A-8623-4A5BE55325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E:\制作工作\2014\1\PPT模板\样例\7 初中数学\模板1-2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制作工作\2014\1\PPT模板\样例\7 初中数学\模板1-1.png"/>
          <p:cNvPicPr/>
          <p:nvPr/>
        </p:nvPicPr>
        <p:blipFill>
          <a:blip r:embed="rId4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E21E-66D5-42C7-972C-CA217B5A79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896C-8E02-4AC9-857B-A75152AB62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F013-44E4-4259-8D0D-83B5A0BA9F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1112-23DE-4DD2-A8B5-65585C8BA8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EFF6-4FC1-435C-889F-210F137EC0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0C32-82A9-46F5-BB35-03B5FA852D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843E-6F69-4E14-A108-86DC9EE524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7231-C9CF-44CA-9DE2-02BA867EC9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AB8A-2D17-4F39-8A85-CAE253EB9B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EB18-5DC7-486B-A0A0-656B7E9020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8B13-F9CD-4C7D-BB9E-2B4FE4A2ED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E802-E46F-406C-BF7F-5236D05D83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B5F6-D931-4F28-BF2B-81D6BE7AF9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3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69800" y="274680"/>
            <a:ext cx="784728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9.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课题学习　制作立体模型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课时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12720" y="3645000"/>
            <a:ext cx="80740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新庄中学    朱发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矩形 36"/>
          <p:cNvSpPr/>
          <p:nvPr/>
        </p:nvSpPr>
        <p:spPr>
          <a:xfrm>
            <a:off x="250920" y="328680"/>
            <a:ext cx="633708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由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锥的展示图制作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"/>
          <p:cNvSpPr/>
          <p:nvPr/>
        </p:nvSpPr>
        <p:spPr>
          <a:xfrm>
            <a:off x="179280" y="1268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问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下面的每组平面图形，都由四个等边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角形组成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"/>
          <p:cNvSpPr/>
          <p:nvPr/>
        </p:nvSpPr>
        <p:spPr>
          <a:xfrm>
            <a:off x="179280" y="501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指出其中哪些可以折叠成三棱锥．把上面的图形描在纸上，剪下来，叠一叠，验证你的结论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22"/>
          <p:cNvSpPr/>
          <p:nvPr/>
        </p:nvSpPr>
        <p:spPr>
          <a:xfrm>
            <a:off x="898560" y="43657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23"/>
          <p:cNvSpPr/>
          <p:nvPr/>
        </p:nvSpPr>
        <p:spPr>
          <a:xfrm>
            <a:off x="3691080" y="43657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5"/>
          <p:cNvSpPr/>
          <p:nvPr/>
        </p:nvSpPr>
        <p:spPr>
          <a:xfrm>
            <a:off x="6588000" y="43657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Picture 26" descr="@~UFYCYB96L~2$8U(B07PGS"/>
          <p:cNvPicPr/>
          <p:nvPr/>
        </p:nvPicPr>
        <p:blipFill>
          <a:blip r:embed="rId2"/>
          <a:stretch/>
        </p:blipFill>
        <p:spPr>
          <a:xfrm>
            <a:off x="250920" y="2205000"/>
            <a:ext cx="8569080" cy="2129040"/>
          </a:xfrm>
          <a:prstGeom prst="rect">
            <a:avLst/>
          </a:prstGeom>
          <a:ln w="0">
            <a:noFill/>
          </a:ln>
        </p:spPr>
      </p:pic>
      <p:pic>
        <p:nvPicPr>
          <p:cNvPr id="996" name="图片 6" descr="tb.png"/>
          <p:cNvPicPr/>
          <p:nvPr/>
        </p:nvPicPr>
        <p:blipFill>
          <a:blip r:embed="rId3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矩形 36"/>
          <p:cNvSpPr/>
          <p:nvPr/>
        </p:nvSpPr>
        <p:spPr>
          <a:xfrm>
            <a:off x="250920" y="328680"/>
            <a:ext cx="633708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由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锥的展示图制作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"/>
          <p:cNvSpPr/>
          <p:nvPr/>
        </p:nvSpPr>
        <p:spPr>
          <a:xfrm>
            <a:off x="179280" y="1268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问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下面的每组平面图形，都由四个等边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角形组成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"/>
          <p:cNvSpPr/>
          <p:nvPr/>
        </p:nvSpPr>
        <p:spPr>
          <a:xfrm>
            <a:off x="179280" y="5013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画出由上面图形能折叠成的三棱锥的三视图，并指出三视图中是怎样体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长对正，高平齐，宽相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23"/>
          <p:cNvSpPr/>
          <p:nvPr/>
        </p:nvSpPr>
        <p:spPr>
          <a:xfrm>
            <a:off x="898560" y="43657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24"/>
          <p:cNvSpPr/>
          <p:nvPr/>
        </p:nvSpPr>
        <p:spPr>
          <a:xfrm>
            <a:off x="3691080" y="43657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25"/>
          <p:cNvSpPr/>
          <p:nvPr/>
        </p:nvSpPr>
        <p:spPr>
          <a:xfrm>
            <a:off x="6588000" y="43657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26" descr="@~UFYCYB96L~2$8U(B07PGS"/>
          <p:cNvPicPr/>
          <p:nvPr/>
        </p:nvPicPr>
        <p:blipFill>
          <a:blip r:embed="rId2"/>
          <a:stretch/>
        </p:blipFill>
        <p:spPr>
          <a:xfrm>
            <a:off x="250920" y="2205000"/>
            <a:ext cx="8569080" cy="2129040"/>
          </a:xfrm>
          <a:prstGeom prst="rect">
            <a:avLst/>
          </a:prstGeom>
          <a:ln w="0">
            <a:noFill/>
          </a:ln>
        </p:spPr>
      </p:pic>
      <p:pic>
        <p:nvPicPr>
          <p:cNvPr id="1004" name="图片 6" descr="tb.png"/>
          <p:cNvPicPr/>
          <p:nvPr/>
        </p:nvPicPr>
        <p:blipFill>
          <a:blip r:embed="rId3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6" descr="@~UFYCYB96L~2$8U(B07PGS"/>
          <p:cNvPicPr/>
          <p:nvPr/>
        </p:nvPicPr>
        <p:blipFill>
          <a:blip r:embed="rId2"/>
          <a:stretch/>
        </p:blipFill>
        <p:spPr>
          <a:xfrm>
            <a:off x="250920" y="2205000"/>
            <a:ext cx="8569080" cy="2129040"/>
          </a:xfrm>
          <a:prstGeom prst="rect">
            <a:avLst/>
          </a:prstGeom>
          <a:ln w="0">
            <a:noFill/>
          </a:ln>
        </p:spPr>
      </p:pic>
      <p:sp>
        <p:nvSpPr>
          <p:cNvPr id="1006" name="矩形 36"/>
          <p:cNvSpPr/>
          <p:nvPr/>
        </p:nvSpPr>
        <p:spPr>
          <a:xfrm>
            <a:off x="250920" y="328680"/>
            <a:ext cx="633708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由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锥的展示图制作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3"/>
          <p:cNvSpPr/>
          <p:nvPr/>
        </p:nvSpPr>
        <p:spPr>
          <a:xfrm>
            <a:off x="179280" y="1268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问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下面的每组平面图形，都由四个等边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角形组成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3"/>
          <p:cNvSpPr/>
          <p:nvPr/>
        </p:nvSpPr>
        <p:spPr>
          <a:xfrm>
            <a:off x="179280" y="5013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如果上图中小三角形的边长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那么对应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锥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表面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3"/>
          <p:cNvSpPr/>
          <p:nvPr/>
        </p:nvSpPr>
        <p:spPr>
          <a:xfrm>
            <a:off x="898560" y="43657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4"/>
          <p:cNvSpPr/>
          <p:nvPr/>
        </p:nvSpPr>
        <p:spPr>
          <a:xfrm>
            <a:off x="3691080" y="43657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25"/>
          <p:cNvSpPr/>
          <p:nvPr/>
        </p:nvSpPr>
        <p:spPr>
          <a:xfrm>
            <a:off x="6588000" y="43657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图片 6" descr="tb.png"/>
          <p:cNvPicPr/>
          <p:nvPr/>
        </p:nvPicPr>
        <p:blipFill>
          <a:blip r:embed="rId3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Picture 10" descr="6K~~ZG]`KI4{FE@NVI@RH[H"/>
          <p:cNvPicPr/>
          <p:nvPr/>
        </p:nvPicPr>
        <p:blipFill>
          <a:blip r:embed="rId2"/>
          <a:stretch/>
        </p:blipFill>
        <p:spPr>
          <a:xfrm>
            <a:off x="3059280" y="1908000"/>
            <a:ext cx="2376360" cy="1986120"/>
          </a:xfrm>
          <a:prstGeom prst="rect">
            <a:avLst/>
          </a:prstGeom>
          <a:ln w="0">
            <a:noFill/>
          </a:ln>
        </p:spPr>
      </p:pic>
      <p:sp>
        <p:nvSpPr>
          <p:cNvPr id="1014" name="矩形 36"/>
          <p:cNvSpPr/>
          <p:nvPr/>
        </p:nvSpPr>
        <p:spPr>
          <a:xfrm>
            <a:off x="250920" y="328680"/>
            <a:ext cx="633708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由圆锥的平面展开图制作圆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3"/>
          <p:cNvSpPr/>
          <p:nvPr/>
        </p:nvSpPr>
        <p:spPr>
          <a:xfrm>
            <a:off x="179280" y="1268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问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下面的图形由一个扇形和一个圆组成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3"/>
          <p:cNvSpPr/>
          <p:nvPr/>
        </p:nvSpPr>
        <p:spPr>
          <a:xfrm>
            <a:off x="158760" y="3903840"/>
            <a:ext cx="896472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把上面的图形描在纸上，剪下来，围成一个圆锥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画出由上面图形围成的圆锥的三视图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如果上图中扇形的半径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圆的半径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那么对应的圆锥的体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6" descr="tb.png"/>
          <p:cNvPicPr/>
          <p:nvPr/>
        </p:nvPicPr>
        <p:blipFill>
          <a:blip r:embed="rId3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矩形 36"/>
          <p:cNvSpPr/>
          <p:nvPr/>
        </p:nvSpPr>
        <p:spPr>
          <a:xfrm>
            <a:off x="250920" y="328680"/>
            <a:ext cx="309708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反思与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3"/>
          <p:cNvSpPr/>
          <p:nvPr/>
        </p:nvSpPr>
        <p:spPr>
          <a:xfrm>
            <a:off x="179280" y="1268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认识平面图形与立体图形的联系，有助于根据需要实现它们之间的相互转化，即学会画三视图以及由三视图得出立体图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矩形 7"/>
          <p:cNvSpPr/>
          <p:nvPr/>
        </p:nvSpPr>
        <p:spPr>
          <a:xfrm>
            <a:off x="250920" y="328680"/>
            <a:ext cx="266544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布置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3"/>
          <p:cNvSpPr/>
          <p:nvPr/>
        </p:nvSpPr>
        <p:spPr>
          <a:xfrm>
            <a:off x="179280" y="1268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三视图和展开图都是与立体图形有关的平面图形，利用课余时间，结合我们的生活实际和具体的事例，写一篇短文介绍三视图、展开图的应用，以及你的感受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郑新明</dc:creator>
  <dc:description/>
  <dc:language>en-US</dc:language>
  <cp:lastModifiedBy>Administrator</cp:lastModifiedBy>
  <dcterms:modified xsi:type="dcterms:W3CDTF">2015-11-17T12:59:03Z</dcterms:modified>
  <cp:revision>1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